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6B8B-47DD-46FA-8D85-D586C0404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Заболеваемости по РФ за 2012 год неизвестна на данный мо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B93-C20E-4407-997E-85D8E119D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EEC-43BB-4F6E-AC9F-BC281023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747-270D-4265-8587-BBAF1C50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0C0-3143-4416-B62F-F2CC4CFA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78C-F881-46E9-AD9B-70B0D8AE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79-40EF-4B8F-99EE-6B318C4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EC7-B25B-40EF-9A61-937611EA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043-2E9B-4BB3-BDA4-F5015E3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752-B2CF-48D0-B3B6-B6B14F1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C79-FFFC-47A6-951B-63FD424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0C6-2BBA-42BB-8D2D-20BDF3A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EB8-7AE0-42B5-82EF-6309CDF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DF3-B3C5-4499-9E5A-1619BFC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9E95-7B64-470C-91BD-D9B9DD4F0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980640"/>
            <a:ext cx="63374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Анализ смертности от злокачественных новообразований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в Московской </a:t>
            </a: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области за 2014 год и 1 полугодие 2015 года.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Пути её сниж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rcRect l="1462" t="0" r="1462" b="0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908000" y="981000"/>
            <a:ext cx="6121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24000" y="5013360"/>
            <a:ext cx="6121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И.о. главного врач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ГБУЗ МО «Московский областной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нкологический диспансер»                        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А.Ф. Мерку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14 октября 201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</a:rPr>
              <a:t>Высокие показатели смертности по районам Московской области в 2014 году</a:t>
            </a:r>
            <a:br>
              <a:rPr sz="2000"/>
            </a:br>
            <a:r>
              <a:rPr b="1" i="1" lang="ru-RU" sz="1600" spc="-1" strike="noStrike">
                <a:solidFill>
                  <a:srgbClr val="cc3300"/>
                </a:solidFill>
                <a:latin typeface="  Arial Cyr "/>
              </a:rPr>
              <a:t>(«грубый» показат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04840" y="1773360"/>
          <a:ext cx="6096240" cy="4471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мертность на 100 тыс.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расноарме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Звени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Серпу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иево-Посад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тош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олом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ту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4818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сновные причины смертности от злокачественных новообразований в Московской </a:t>
            </a: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 в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Объект 7"/>
          <p:cNvGraphicFramePr/>
          <p:nvPr/>
        </p:nvGraphicFramePr>
        <p:xfrm>
          <a:off x="1857240" y="1773360"/>
          <a:ext cx="6675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773360"/>
                    <a:ext cx="6675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302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Диаграмма 2"/>
          <p:cNvGraphicFramePr/>
          <p:nvPr/>
        </p:nvGraphicFramePr>
        <p:xfrm>
          <a:off x="1547640" y="2133720"/>
          <a:ext cx="663912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133720"/>
                    <a:ext cx="66391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436320"/>
            <a:ext cx="66582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Динамика одногодичной летальности в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ысокие показатели одногодичной летальности 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1700280"/>
          <a:ext cx="6096240" cy="4600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Одногодичная леталь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ши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0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ыткар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п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осино-Пет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7920" y="369720"/>
            <a:ext cx="719136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Распределение по стадиям злокачественных новообразований, выявленных в Московской области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в 2011-2014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Объект 8"/>
          <p:cNvGraphicFramePr/>
          <p:nvPr/>
        </p:nvGraphicFramePr>
        <p:xfrm>
          <a:off x="1258920" y="2060640"/>
          <a:ext cx="686124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8612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4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  Arial Cyr "/>
              </a:rPr>
              <a:t>Показатель запущенности в Московской области в 2014 год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280" y="1773000"/>
            <a:ext cx="6540840" cy="31683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й области в 2014 году данный показатель состави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1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3 г. – 17,9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запущенности с учетом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дии визуально доступных локализаций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,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2013 г. - 25,7 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1"/>
          <p:cNvGraphicFramePr/>
          <p:nvPr/>
        </p:nvGraphicFramePr>
        <p:xfrm>
          <a:off x="2411280" y="1630440"/>
          <a:ext cx="5513400" cy="38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630440"/>
                    <a:ext cx="551340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Заголовок 1"/>
          <p:cNvSpPr/>
          <p:nvPr/>
        </p:nvSpPr>
        <p:spPr>
          <a:xfrm>
            <a:off x="2411280" y="334800"/>
            <a:ext cx="6161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 Cyr "/>
                <a:ea typeface="Times New Roman"/>
              </a:rPr>
              <a:t>Динамика запущенности за 5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3"/>
          <a:stretch/>
        </p:blipFill>
        <p:spPr>
          <a:xfrm>
            <a:off x="28440" y="0"/>
            <a:ext cx="94644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0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  <a:ea typeface="Times New Roman"/>
              </a:rPr>
              <a:t>Показатели поздней диагностики злокачественных новообразований визуально доступных локализаций в Московской области в 2014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8560" y="1700280"/>
            <a:ext cx="7273800" cy="468144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1,6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слизистой полости рта и глот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60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4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прямой кишки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тосигмоидного соединения, ану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56,5%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1,6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шейки мат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2013 г. – 34,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3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овообразования молоч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34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,1 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опухоли щитовидной желез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г. – 24,9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Наиболее высокий удельный вес больных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с </a:t>
            </a:r>
            <a:r>
              <a:rPr b="1" i="1" lang="en-US" sz="1600" spc="-1" strike="noStrike">
                <a:solidFill>
                  <a:srgbClr val="c00000"/>
                </a:solidFill>
                <a:latin typeface="  Arial Cyr "/>
              </a:rPr>
              <a:t>IV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стадией 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1700280"/>
          <a:ext cx="6096240" cy="4473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Запущен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Электрого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лимов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Рош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3908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7280" y="1125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лноценного учета бо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не предоставляют информаци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гласно  Федеральному закону от 27 июля 2006 г. N 152-ФЗ "О персональных данных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включают в общий перечень умерших от злокачественных новообразований лиц, не имеющих регистрации в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увеличивается реальная картина состояния смертности от злокачественных ново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50400" y="2557080"/>
            <a:ext cx="733284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В 2014 году  в  Московской области впервые в жизни выявлено  25600 случаев  злокачественных новообразований у 24221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лиц с впервые в жизни выявленным злокачественным новообразованием 17,9 % (4 599 человек) составили сельские жители.</a:t>
            </a: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379520" y="1060560"/>
            <a:ext cx="63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 Московской области 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rcRect l="534" t="0" r="534" b="0"/>
          <a:stretch/>
        </p:blipFill>
        <p:spPr>
          <a:xfrm>
            <a:off x="4680" y="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217080"/>
            <a:ext cx="45180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280" y="112500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кодировка причин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тний период численность населения Московской области увеличивается более чем на 2 млн. жителей (за счет «дачников»), тем самым заочно увеличивая вероятность завышения показателей смертности, в том числе и от злокачественных новообраз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и внутренняя миграция населения с целью улучшения своей трудовой деятельности, переезд к родственникам болеющих родителей, с учетом близко расположенных Федеральных  и государственных медицинских учреждений. В данной ситуации для обеспечения качественного лечения им делают регистрацию в Московской области и в случае их смерти справки, свидетельство о смерти проходят через ЗАГСы 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, необходим строгий контроль отслеживания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7913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6920" y="1483920"/>
            <a:ext cx="76201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воевременность обращения населени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ая выявляемость новообразований на ранних стадиях. Незначительный ежегодный рост показате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М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4 год – 52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 год - 51,9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2 год - 51,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1 год - 51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атя-леша\AppData\Local\Microsoft\Windows\Temporary Internet Files\Content.IE5\OVPXFT0T\MP900400941[1].jpg"/>
          <p:cNvPicPr/>
          <p:nvPr/>
        </p:nvPicPr>
        <p:blipFill>
          <a:blip r:embed="rId1"/>
          <a:stretch/>
        </p:blipFill>
        <p:spPr>
          <a:xfrm>
            <a:off x="4406760" y="2743200"/>
            <a:ext cx="4749840" cy="31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43920"/>
            <a:ext cx="57909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бая диагностическая база в ЛПУ 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кадров в первичном звене онкологическ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Users\катя-леша\AppData\Local\Microsoft\Windows\Temporary Internet Files\Content.IE5\PNGYDRDR\MC900333428[1].wmf"/>
          <p:cNvPicPr/>
          <p:nvPr/>
        </p:nvPicPr>
        <p:blipFill>
          <a:blip r:embed="rId2"/>
          <a:stretch/>
        </p:blipFill>
        <p:spPr>
          <a:xfrm>
            <a:off x="1547640" y="2421000"/>
            <a:ext cx="1168560" cy="1814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2640" y="34920"/>
            <a:ext cx="31003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6920" y="98100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даче справки о смерти от злокачественного новообразования должна быть обязательно подпись районного он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катя-леша\AppData\Local\Microsoft\Windows\Temporary Internet Files\Content.IE5\OVPXFT0T\MC900235339[1].wmf"/>
          <p:cNvPicPr/>
          <p:nvPr/>
        </p:nvPicPr>
        <p:blipFill>
          <a:blip r:embed="rId1"/>
          <a:stretch/>
        </p:blipFill>
        <p:spPr>
          <a:xfrm>
            <a:off x="7164360" y="4869000"/>
            <a:ext cx="1797120" cy="1795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151920"/>
            <a:ext cx="7705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ость морфологической верификации ди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2560" y="1341360"/>
            <a:ext cx="7797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ым врачам следует понимать, что морфологическая верификация диагноза крайне важна - без нее невозможно не только назначить лечение, но даже просто поставить больного на учет в онкокабинет, а значит выдать впоследствии справку о смерти без аутоп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более широко использовать процедуру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выдача справки о смерти без морфологической верификации диагноза или без выявленного первичного опухолевого о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Users\катя-леша\AppData\Local\Microsoft\Windows\Temporary Internet Files\Content.IE5\F3BCLA7F\MC900293290[1].wmf"/>
          <p:cNvPicPr/>
          <p:nvPr/>
        </p:nvPicPr>
        <p:blipFill>
          <a:blip r:embed="rId1"/>
          <a:stretch/>
        </p:blipFill>
        <p:spPr>
          <a:xfrm rot="16909800">
            <a:off x="104040" y="4742280"/>
            <a:ext cx="1409400" cy="2506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488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троль медицинской докум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00240" y="162828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 учреждениям необходим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контроль за ведением медицинской докумен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месячно проверять не менее 30 % амбулаторных карт пациентов, обратившихся в ЛПУ за данный пери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роверок оформлять Акт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72104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бор запущенных случа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341000"/>
            <a:ext cx="7220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разбор запущенных случаев с участ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частков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зких специальностей амбулаторно-поликлинического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аторов ГБУЗ МО «Московский областной онкологический диспансе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35280" y="17280"/>
            <a:ext cx="68515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Я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76000" y="1196640"/>
            <a:ext cx="708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мертности путем совершенствования ранней диагностики и как следствие – снижение одногодичной лет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атериально-технической базы для диагностики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8920" y="151920"/>
            <a:ext cx="41050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обучающие семинары с врачами общей лечебной сети по выявлению злокачественных новообразований у жителей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и проводить выступления в СМИ (газеты, ТВ, радио) по вопросам профилактики и раннего выявления злокачественных опухолей (не реже одного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33120"/>
            <a:ext cx="6994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кадров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42560" y="1125000"/>
            <a:ext cx="79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дготовку кадров для работы по оказанию медицинской помощи больным с онкологическими заболеваниями на территории Московской области (по состоянию на 01.01.2015 года обеспеченность кадрами первичного звена 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,1 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медицинских кадров (для сохранения кадров на рабочих местах необходима достойная заработная плата, обеспечение служебным жильем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7680" y="1238040"/>
            <a:ext cx="72676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51160" y="488880"/>
            <a:ext cx="62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локачественные новообразования выявлены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838 мужчин  и 14  762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заболевших преобладают женщины – 57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111480" y="2019240"/>
            <a:ext cx="370044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90920" y="5068800"/>
            <a:ext cx="177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57,7%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64000" y="51832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0" y="1440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Круглая лента лицом вверх 7"/>
          <p:cNvSpPr/>
          <p:nvPr/>
        </p:nvSpPr>
        <p:spPr>
          <a:xfrm>
            <a:off x="293760" y="1103400"/>
            <a:ext cx="8631000" cy="1847880"/>
          </a:xfrm>
          <a:custGeom>
            <a:avLst/>
            <a:gdLst>
              <a:gd name="textAreaLeft" fmla="*/ 2157840 w 8631000"/>
              <a:gd name="textAreaRight" fmla="*/ 6473520 w 8631000"/>
              <a:gd name="textAreaTop" fmla="*/ 54720 h 1847880"/>
              <a:gd name="textAreaBottom" fmla="*/ 1504080 h 1847880"/>
            </a:gdLst>
            <a:ahLst/>
            <a:rect l="textAreaLeft" t="textAreaTop" r="textAreaRight" b="textAreaBottom"/>
            <a:pathLst>
              <a:path w="21600" h="21600">
                <a:moveTo>
                  <a:pt x="0" y="4019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1959"/>
                </a:lnTo>
                <a:arcTo wR="21600" hR="20153" stAng="-4471878" swAng="976834"/>
                <a:lnTo>
                  <a:pt x="18900" y="11580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7739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580"/>
                </a:lnTo>
                <a:close/>
              </a:path>
              <a:path fill="none" w="21600" h="21600">
                <a:moveTo>
                  <a:pt x="8100" y="17739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7739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1959"/>
                </a:moveTo>
                <a:lnTo>
                  <a:pt x="5400" y="18221"/>
                </a:lnTo>
              </a:path>
              <a:path fill="none" w="21600" h="21600">
                <a:moveTo>
                  <a:pt x="16200" y="1959"/>
                </a:moveTo>
                <a:lnTo>
                  <a:pt x="16200" y="18221"/>
                </a:lnTo>
              </a:path>
            </a:pathLst>
          </a:cu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Благодарю 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3236760" y="5621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"/>
          <p:cNvPicPr/>
          <p:nvPr/>
        </p:nvPicPr>
        <p:blipFill>
          <a:blip r:embed="rId1"/>
          <a:stretch/>
        </p:blipFill>
        <p:spPr>
          <a:xfrm>
            <a:off x="1805040" y="2859120"/>
            <a:ext cx="5186160" cy="3097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79640" y="1125000"/>
            <a:ext cx="640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 контингента онкологических б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овской области в 2014 году составила            192 790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равнению с 2013 годом количество больных злокачественными новообразованиями увелич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,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ы с диагнозом злокачественного новообразования составили 2,7% населения Моск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ь заболеваемости злокачественными новообразованиями в Московской области составил 363,2 на 100 тыс.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Это на 6,2 %  выше  уровня  201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Российской Федерации и Московской области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2010-2014 года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Содержимое 3"/>
          <p:cNvGraphicFramePr/>
          <p:nvPr/>
        </p:nvGraphicFramePr>
        <p:xfrm>
          <a:off x="1389240" y="1197000"/>
          <a:ext cx="691344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197000"/>
                    <a:ext cx="6913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1403280" y="5300640"/>
            <a:ext cx="66247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леваемость злокачественными новообразованиями в Московской области в 1 полугодии 2015г. – 344,3 на 100 тыс.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468360"/>
            <a:ext cx="61452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Заболеваемость (на 100 000 населения) злокачественными новообразованиями наиболее распространенных локализаций в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3"/>
          <p:cNvGraphicFramePr/>
          <p:nvPr/>
        </p:nvGraphicFramePr>
        <p:xfrm>
          <a:off x="1549440" y="1916280"/>
          <a:ext cx="6575400" cy="343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916280"/>
                    <a:ext cx="657540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97536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Указ Президента Российской Федерации от 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7 мая 2012 года N 598</a:t>
            </a:r>
            <a:br>
              <a:rPr sz="1800"/>
            </a:b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"О совершенствовании государственной политики в сфере здравоохранения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06680" y="2421000"/>
            <a:ext cx="66196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В целях дальнейшего совершенствования государственной политики в сфере здравоохранения, направленной на сохранение и укрепление здоровья граждан Российской Федерации, увеличение продолжительности их жизни, 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постановля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1. Правительству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а) обеспечить к 2018 г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e0613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снижение смертности от новообразований (в том числе от злокачественных) до 192,8 случая на 100 тыс. насе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Диаграмма 2"/>
          <p:cNvGraphicFramePr/>
          <p:nvPr/>
        </p:nvGraphicFramePr>
        <p:xfrm>
          <a:off x="992160" y="1700280"/>
          <a:ext cx="751860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700280"/>
                    <a:ext cx="7518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457200"/>
            <a:ext cx="720072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Смертность от злокачественных новообразований в 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25400" y="5805000"/>
            <a:ext cx="6691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ность от злокачественных новообразований в Московской области в 1 полугодии 2015 года – 218,3 на 100 тыс.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Показатели смертности от новообразований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(в том числе от злокачественных) в Московской </a:t>
            </a:r>
            <a:r>
              <a:rPr b="1" i="1" lang="ru-RU" sz="18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Объект 7"/>
          <p:cNvGraphicFramePr/>
          <p:nvPr/>
        </p:nvGraphicFramePr>
        <p:xfrm>
          <a:off x="1476360" y="2133720"/>
          <a:ext cx="7031160" cy="33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133720"/>
                    <a:ext cx="703116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9:46:20Z</dcterms:created>
  <dc:creator>Alexander</dc:creator>
  <dc:description/>
  <dc:language>en-US</dc:language>
  <cp:lastModifiedBy>--</cp:lastModifiedBy>
  <dcterms:modified xsi:type="dcterms:W3CDTF">2015-10-13T18:20:18Z</dcterms:modified>
  <cp:revision>75</cp:revision>
  <dc:subject/>
  <dc:title>Летальность на первом году  в 5 медицинском округе Московской области  в 2013-2014 г.</dc:title>
</cp:coreProperties>
</file>